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14.png" ContentType="image/png"/>
  <Override PartName="/ppt/media/image16.png" ContentType="image/png"/>
  <Override PartName="/ppt/media/clap.wav" ContentType="audio/x-wav"/>
  <Override PartName="/ppt/media/image11.png" ContentType="image/png"/>
  <Override PartName="/ppt/media/image17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36.jpeg" ContentType="image/jpeg"/>
  <Override PartName="/ppt/media/image6.png" ContentType="image/png"/>
  <Override PartName="/ppt/media/image3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png" ContentType="image/png"/>
  <Override PartName="/ppt/media/image33.png" ContentType="image/png"/>
  <Override PartName="/ppt/media/image26.png" ContentType="image/png"/>
  <Override PartName="/ppt/media/image27.jpeg" ContentType="image/jpeg"/>
  <Override PartName="/ppt/media/glass.wav" ContentType="audio/x-wav"/>
  <Override PartName="/ppt/media/image34.png" ContentType="image/png"/>
  <Override PartName="/ppt/media/image9.png" ContentType="image/png"/>
  <Override PartName="/ppt/media/cashreg.wav" ContentType="audio/x-wav"/>
  <Override PartName="/ppt/media/image13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9FE-4BFE-424D-B488-50F5B56A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720-3E46-4294-BD2C-F3CF1F71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6D3-930B-4C66-AA81-5D83E513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C69-FFAB-49CE-96E5-F91C4510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F2A-2D6C-4C27-B9DC-13920975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F25-5FA4-4E81-B193-F472B22E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F88-E323-4506-A591-311C1038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A32-D947-41FF-BB70-E24D573C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D47-2147-4098-A2D0-8327B3DD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A51-4ED4-4667-8D6F-0031D08C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30A-7526-4D72-B9D0-566A48BA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2AF-D775-419A-9232-C50E17E1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C7F0-3630-46E2-A1B2-04AD4F306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audio" Target="../media/cashreg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decision4u.com/" TargetMode="External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lap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Überwachung von Internet Aktivitä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3116160" cy="84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206244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581280" y="3352680"/>
            <a:ext cx="2264040" cy="74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324480" y="3352680"/>
            <a:ext cx="1720800" cy="9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43434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Überwachung folgender Aktivitä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mail, Hotmail, Web-Mail, MSN/ICQ/AOL/Yahoo, QQ, FTP, Telnet und Website (URL)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676520" y="2209680"/>
            <a:ext cx="5715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IM-MSN, ICQ, AOL, Yahoo, QQ L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3356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msn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6400800" cy="385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3356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52680" y="1904760"/>
            <a:ext cx="5276880" cy="4362840"/>
            <a:chOff x="3352680" y="1904760"/>
            <a:chExt cx="5276880" cy="4362840"/>
          </a:xfrm>
        </p:grpSpPr>
        <p:pic>
          <p:nvPicPr>
            <p:cNvPr id="102" name="04" descr=""/>
            <p:cNvPicPr/>
            <p:nvPr/>
          </p:nvPicPr>
          <p:blipFill>
            <a:blip r:embed="rId2"/>
            <a:stretch/>
          </p:blipFill>
          <p:spPr>
            <a:xfrm>
              <a:off x="3352680" y="2590920"/>
              <a:ext cx="5276880" cy="36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flipV="1">
              <a:off x="5105520" y="1904760"/>
              <a:ext cx="9144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7086600" y="2362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781680" y="1981080"/>
            <a:ext cx="2057400" cy="2455920"/>
            <a:chOff x="6781680" y="1981080"/>
            <a:chExt cx="2057400" cy="2455920"/>
          </a:xfrm>
        </p:grpSpPr>
        <p:sp>
          <p:nvSpPr>
            <p:cNvPr id="106" name=""/>
            <p:cNvSpPr/>
            <p:nvPr/>
          </p:nvSpPr>
          <p:spPr>
            <a:xfrm>
              <a:off x="6781680" y="1981080"/>
              <a:ext cx="2057400" cy="2455920"/>
            </a:xfrm>
            <a:prstGeom prst="wedgeRoundRectCallout">
              <a:avLst>
                <a:gd name="adj1" fmla="val -63273"/>
                <a:gd name="adj2" fmla="val 70518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2204280"/>
              <a:ext cx="1523880" cy="20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atu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Zei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I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Teilneh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Inha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04960" y="53352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FTP L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335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ftp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086600" cy="42465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4495680" y="2057400"/>
            <a:ext cx="4191120" cy="3740040"/>
            <a:chOff x="4495680" y="2057400"/>
            <a:chExt cx="4191120" cy="3740040"/>
          </a:xfrm>
        </p:grpSpPr>
        <p:sp>
          <p:nvSpPr>
            <p:cNvPr id="112" name=""/>
            <p:cNvSpPr/>
            <p:nvPr/>
          </p:nvSpPr>
          <p:spPr>
            <a:xfrm>
              <a:off x="4495680" y="2971800"/>
              <a:ext cx="4191120" cy="28191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4495680" y="2971800"/>
              <a:ext cx="4191120" cy="28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flipV="1">
              <a:off x="6476760" y="2057400"/>
              <a:ext cx="2286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1280" y="5157720"/>
            <a:ext cx="4247640" cy="1366560"/>
            <a:chOff x="611280" y="5157720"/>
            <a:chExt cx="4247640" cy="1366560"/>
          </a:xfrm>
        </p:grpSpPr>
        <p:sp>
          <p:nvSpPr>
            <p:cNvPr id="116" name=""/>
            <p:cNvSpPr/>
            <p:nvPr/>
          </p:nvSpPr>
          <p:spPr>
            <a:xfrm>
              <a:off x="611280" y="5157720"/>
              <a:ext cx="4247640" cy="1366560"/>
            </a:xfrm>
            <a:prstGeom prst="wedgeRoundRectCallout">
              <a:avLst>
                <a:gd name="adj1" fmla="val 56055"/>
                <a:gd name="adj2" fmla="val -67055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7560" y="5328720"/>
              <a:ext cx="375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atum, Zeit, IP-Adresse, Server IP, Passwort, Aktion, Dateiname, Dateiinhalt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335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http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162560" cy="4337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819520" y="5335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URL Browsing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05320" y="2361960"/>
            <a:ext cx="5029200" cy="4283280"/>
            <a:chOff x="3505320" y="2361960"/>
            <a:chExt cx="5029200" cy="4283280"/>
          </a:xfrm>
        </p:grpSpPr>
        <p:grpSp>
          <p:nvGrpSpPr>
            <p:cNvPr id="122" name=""/>
            <p:cNvGrpSpPr/>
            <p:nvPr/>
          </p:nvGrpSpPr>
          <p:grpSpPr>
            <a:xfrm>
              <a:off x="3505320" y="3200400"/>
              <a:ext cx="5029200" cy="3444840"/>
              <a:chOff x="3505320" y="3200400"/>
              <a:chExt cx="5029200" cy="3444840"/>
            </a:xfrm>
          </p:grpSpPr>
          <p:pic>
            <p:nvPicPr>
              <p:cNvPr id="12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05320" y="3200400"/>
                <a:ext cx="5029200" cy="344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3505320" y="3200400"/>
                <a:ext cx="5029200" cy="34290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H="1" flipV="1">
              <a:off x="4952880" y="2361960"/>
              <a:ext cx="9907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537240" y="19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205740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940360" y="1773360"/>
            <a:ext cx="2717640" cy="1260000"/>
            <a:chOff x="5940360" y="1773360"/>
            <a:chExt cx="2717640" cy="1260000"/>
          </a:xfrm>
        </p:grpSpPr>
        <p:sp>
          <p:nvSpPr>
            <p:cNvPr id="129" name=""/>
            <p:cNvSpPr/>
            <p:nvPr/>
          </p:nvSpPr>
          <p:spPr>
            <a:xfrm>
              <a:off x="5940360" y="1773360"/>
              <a:ext cx="2717640" cy="1260000"/>
            </a:xfrm>
            <a:prstGeom prst="wedgeRoundRectCallout">
              <a:avLst>
                <a:gd name="adj1" fmla="val -416"/>
                <a:gd name="adj2" fmla="val 76486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31080" y="1953360"/>
              <a:ext cx="2536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URL, IP Adresse und URL Inhalte werden gespeichert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95480" y="533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Telnet L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335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telnet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238880" cy="43387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343400" y="2057400"/>
            <a:ext cx="4343400" cy="4522680"/>
            <a:chOff x="4343400" y="2057400"/>
            <a:chExt cx="4343400" cy="4522680"/>
          </a:xfrm>
        </p:grpSpPr>
        <p:grpSp>
          <p:nvGrpSpPr>
            <p:cNvPr id="136" name=""/>
            <p:cNvGrpSpPr/>
            <p:nvPr/>
          </p:nvGrpSpPr>
          <p:grpSpPr>
            <a:xfrm>
              <a:off x="4343400" y="2514600"/>
              <a:ext cx="4343400" cy="4065480"/>
              <a:chOff x="4343400" y="2514600"/>
              <a:chExt cx="4343400" cy="4065480"/>
            </a:xfrm>
          </p:grpSpPr>
          <p:pic>
            <p:nvPicPr>
              <p:cNvPr id="1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43400" y="2514600"/>
                <a:ext cx="4343400" cy="406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4343400" y="2541600"/>
                <a:ext cx="4343400" cy="40384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flipV="1">
              <a:off x="6629400" y="2057400"/>
              <a:ext cx="3049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627280" y="2362320"/>
            <a:ext cx="1639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Da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P-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Server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Größ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Benutzer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Passw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335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autobackup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6096240" cy="365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335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1960" y="485640"/>
            <a:ext cx="29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Datensicheru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181480" y="2438280"/>
            <a:ext cx="3646440" cy="3451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332000" y="4191120"/>
            <a:ext cx="35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Automatische Daten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20320" y="585144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Back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516720" y="1125360"/>
            <a:ext cx="2362320" cy="1151280"/>
            <a:chOff x="6516720" y="1125360"/>
            <a:chExt cx="2362320" cy="1151280"/>
          </a:xfrm>
        </p:grpSpPr>
        <p:sp>
          <p:nvSpPr>
            <p:cNvPr id="149" name=""/>
            <p:cNvSpPr/>
            <p:nvPr/>
          </p:nvSpPr>
          <p:spPr>
            <a:xfrm>
              <a:off x="6516720" y="1213920"/>
              <a:ext cx="236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atensicherung ist im ISO Format auf HDD oder CD möglic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16720" y="1125360"/>
              <a:ext cx="2362320" cy="1151280"/>
            </a:xfrm>
            <a:prstGeom prst="wedgeRoundRectCallout">
              <a:avLst>
                <a:gd name="adj1" fmla="val -77152"/>
                <a:gd name="adj2" fmla="val -27805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47800" y="274680"/>
            <a:ext cx="5648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Datensu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3356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01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6095880" cy="4313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430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02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4857480" cy="20480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6400800" y="1219320"/>
            <a:ext cx="2514600" cy="1981080"/>
            <a:chOff x="6400800" y="1219320"/>
            <a:chExt cx="2514600" cy="1981080"/>
          </a:xfrm>
        </p:grpSpPr>
        <p:sp>
          <p:nvSpPr>
            <p:cNvPr id="157" name=""/>
            <p:cNvSpPr/>
            <p:nvPr/>
          </p:nvSpPr>
          <p:spPr>
            <a:xfrm>
              <a:off x="6553080" y="1523880"/>
              <a:ext cx="23623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Suchkriterie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atum, Zeit, IP, Email Adresse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0800" y="1219320"/>
              <a:ext cx="2438280" cy="1981080"/>
            </a:xfrm>
            <a:prstGeom prst="wedgeRoundRectCallout">
              <a:avLst>
                <a:gd name="adj1" fmla="val -50782"/>
                <a:gd name="adj2" fmla="val 81569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41240" y="274320"/>
            <a:ext cx="242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Berich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335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04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5638680" cy="3756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335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335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7188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80480" y="68580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Beri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3645000"/>
            <a:ext cx="7010640" cy="2621160"/>
            <a:chOff x="1752480" y="3645000"/>
            <a:chExt cx="7010640" cy="2621160"/>
          </a:xfrm>
        </p:grpSpPr>
        <p:pic>
          <p:nvPicPr>
            <p:cNvPr id="168" name="06" descr=""/>
            <p:cNvPicPr/>
            <p:nvPr/>
          </p:nvPicPr>
          <p:blipFill>
            <a:blip r:embed="rId2"/>
            <a:stretch/>
          </p:blipFill>
          <p:spPr>
            <a:xfrm>
              <a:off x="1752480" y="3657600"/>
              <a:ext cx="3429000" cy="21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07" descr=""/>
            <p:cNvPicPr/>
            <p:nvPr/>
          </p:nvPicPr>
          <p:blipFill>
            <a:blip r:embed="rId3"/>
            <a:stretch/>
          </p:blipFill>
          <p:spPr>
            <a:xfrm>
              <a:off x="5562720" y="3645000"/>
              <a:ext cx="3200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60280" y="586728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Grafik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41240" y="274320"/>
            <a:ext cx="242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Berich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335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335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335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7188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37960" y="685800"/>
            <a:ext cx="5400720" cy="4548240"/>
            <a:chOff x="237960" y="685800"/>
            <a:chExt cx="5400720" cy="4548240"/>
          </a:xfrm>
        </p:grpSpPr>
        <p:pic>
          <p:nvPicPr>
            <p:cNvPr id="178" name="08" descr=""/>
            <p:cNvPicPr/>
            <p:nvPr/>
          </p:nvPicPr>
          <p:blipFill>
            <a:blip r:embed="rId1"/>
            <a:stretch/>
          </p:blipFill>
          <p:spPr>
            <a:xfrm>
              <a:off x="685800" y="1076400"/>
              <a:ext cx="4952880" cy="41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7960" y="685800"/>
              <a:ext cx="439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Berichte der verschiedenen Protokolle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590920" y="2666880"/>
            <a:ext cx="62481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新細明體"/>
              </a:rPr>
              <a:t>Expand sto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-Detective erlaubt expand storage in Form von NAS, CD Libraries, Tape Storage, us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90920" y="4038480"/>
            <a:ext cx="3642840" cy="1714320"/>
            <a:chOff x="2590920" y="4038480"/>
            <a:chExt cx="3642840" cy="17143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2590920" y="4038480"/>
              <a:ext cx="171432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4952880" y="4038480"/>
              <a:ext cx="1280880" cy="151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新細明體"/>
              </a:rPr>
              <a:t>Fragen &amp; Antw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Für mehr Informationen besuchen Sie bitte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E-Detective Webse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38862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新細明體"/>
                <a:hlinkClick r:id="rId1"/>
              </a:rPr>
              <a:t>http://www.edecision4u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666880"/>
            <a:ext cx="77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ternehmen können zwar Internetaktivitäten blockieren, aber oftmals möchte man den Mitarbeitern das Internet nicht generell verbieten oder es wird für die Arbeit benöti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522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Warum wird Internetüberwachung benötig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2835360" cy="1771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44956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Folgen eines unüberwachten Internetzugang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Durch die private Nutzung des Internets wird der Mitarbeiter/in von der eigentlichen Arbeit abgelen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Gefahr von Spam und Vi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Das Eindringen ins Netzwerk durch „böswillige“ Cook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Verschwendung von Bandbr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Vielen Dank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3166920" cy="2206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09480" y="60948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Eine revolutionäre Technik für die Überwachung und Aufzeichnung von Internet Aktivitäten!!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800600"/>
            <a:ext cx="77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838080"/>
            <a:ext cx="61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3 Einsatzgebiete von E-Detectiv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76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ternehmen, die E-Detective als Abschreckung installieren und die Angestellten darüber informieren, dass alle Internetaktivitäten aufgezeichne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124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ternehmen in speziellen Branchen, z.B. Termingeschäften, Derivaten, …, die ohne das Wissen der Mitarbeiter die Aktivitäten aufzeich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7242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ternehmen, die Ihre Kommunikation übers Internet ganz bewusst archivieren wol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05720" y="609480"/>
            <a:ext cx="13716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新細明體"/>
              </a:rPr>
              <a:t>Was die Mitarbeiter so mach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7560" y="1371600"/>
            <a:ext cx="45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Scheint normale Arbeit zu sein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254480" cy="20336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28600" y="3882960"/>
            <a:ext cx="8915400" cy="2757600"/>
            <a:chOff x="228600" y="3882960"/>
            <a:chExt cx="8915400" cy="2757600"/>
          </a:xfrm>
        </p:grpSpPr>
        <p:sp>
          <p:nvSpPr>
            <p:cNvPr id="62" name=""/>
            <p:cNvSpPr/>
            <p:nvPr/>
          </p:nvSpPr>
          <p:spPr>
            <a:xfrm>
              <a:off x="228600" y="388296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“</a:t>
              </a:r>
              <a:r>
                <a:rPr b="0" lang="de-DE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Was ?! Pornoseiten ? Aktienhandel während der Arbeit ? eShopping ? Was für eine Verschwendung der produktiven Zeit 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2362320" y="4648320"/>
              <a:ext cx="425448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333399"/>
                </a:solidFill>
                <a:latin typeface="Arial"/>
                <a:ea typeface="新細明體"/>
              </a:rPr>
              <a:t>E-Detective System benutzt Schnüffel-Technolog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Use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  <a:ea typeface="新細明體"/>
              </a:rPr>
              <a:t>HUB, Mirror port Switch, T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Copy network packet to E-Detective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343320" cy="3720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3454560" cy="37879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533520" y="1981080"/>
            <a:ext cx="1752120" cy="2210040"/>
            <a:chOff x="533520" y="1981080"/>
            <a:chExt cx="1752120" cy="2210040"/>
          </a:xfrm>
        </p:grpSpPr>
        <p:sp>
          <p:nvSpPr>
            <p:cNvPr id="69" name=""/>
            <p:cNvSpPr/>
            <p:nvPr/>
          </p:nvSpPr>
          <p:spPr>
            <a:xfrm>
              <a:off x="609480" y="1981080"/>
              <a:ext cx="167616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ata acqu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Sup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AD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H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Over VLAN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3520" y="1981080"/>
              <a:ext cx="1676160" cy="2210040"/>
            </a:xfrm>
            <a:prstGeom prst="wedgeRoundRectCallout">
              <a:avLst>
                <a:gd name="adj1" fmla="val 69032"/>
                <a:gd name="adj2" fmla="val 19523"/>
                <a:gd name="adj3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ff"/>
                </a:solidFill>
                <a:latin typeface="Arial"/>
                <a:ea typeface="新細明體"/>
              </a:rPr>
              <a:t>E-Detective ist einfach in der Anwendung 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44924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新細明體"/>
              </a:rPr>
              <a:t>Einfach über den Internet Explorer Browser in das System einlog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新細明體"/>
              </a:rPr>
              <a:t>Zum Schutz der Daten wird https als Protokoll verwen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新細明體"/>
              </a:rPr>
              <a:t>Passwort, Benutzername und Benutzergruppen zur Kontrolle des Systemlo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113360" cy="242712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4419720" y="2590920"/>
            <a:ext cx="1752480" cy="1828440"/>
            <a:chOff x="4419720" y="2590920"/>
            <a:chExt cx="1752480" cy="1828440"/>
          </a:xfrm>
        </p:grpSpPr>
        <p:sp>
          <p:nvSpPr>
            <p:cNvPr id="75" name=""/>
            <p:cNvSpPr/>
            <p:nvPr/>
          </p:nvSpPr>
          <p:spPr>
            <a:xfrm>
              <a:off x="4419720" y="2590920"/>
              <a:ext cx="1752480" cy="91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410080" y="3580920"/>
              <a:ext cx="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新細明體"/>
              </a:rPr>
              <a:t>Von E-Detective unterstützte Protoko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38862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-Detective kann die aufgezeichneten Netzwerk Pakete bei folgenden Protokollen E-Mail (POP3, SMTP, IMP4, Web mail, Hot mail), FTP, MSN, ICQ, AOL, YAHOO, QQ, TELNET und URL Browsing in normale Daten entschlüssel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229716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29718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新細明體"/>
              </a:rPr>
              <a:t>IP Adresse / Computer Netzwerk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510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POP3/SMTP/ Web mail L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335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op3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15200" cy="4383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93356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685800"/>
            <a:ext cx="14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867280" y="228600"/>
            <a:ext cx="2819520" cy="1002960"/>
            <a:chOff x="5867280" y="228600"/>
            <a:chExt cx="2819520" cy="1002960"/>
          </a:xfrm>
        </p:grpSpPr>
        <p:sp>
          <p:nvSpPr>
            <p:cNvPr id="89" name=""/>
            <p:cNvSpPr/>
            <p:nvPr/>
          </p:nvSpPr>
          <p:spPr>
            <a:xfrm flipH="1">
              <a:off x="5867280" y="228600"/>
              <a:ext cx="2750400" cy="1002960"/>
            </a:xfrm>
            <a:prstGeom prst="wedgeEllipseCallout">
              <a:avLst>
                <a:gd name="adj1" fmla="val 62861"/>
                <a:gd name="adj2" fmla="val -212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73560" y="529200"/>
              <a:ext cx="261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POP3, SMTP, Web Mail , Hot 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505320" y="2057400"/>
            <a:ext cx="5276880" cy="4524480"/>
            <a:chOff x="3505320" y="2057400"/>
            <a:chExt cx="5276880" cy="4524480"/>
          </a:xfrm>
        </p:grpSpPr>
        <p:pic>
          <p:nvPicPr>
            <p:cNvPr id="92" name="04" descr=""/>
            <p:cNvPicPr/>
            <p:nvPr/>
          </p:nvPicPr>
          <p:blipFill>
            <a:blip r:embed="rId2"/>
            <a:stretch/>
          </p:blipFill>
          <p:spPr>
            <a:xfrm>
              <a:off x="3505320" y="2895480"/>
              <a:ext cx="5276880" cy="36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flipV="1">
              <a:off x="5638680" y="2057400"/>
              <a:ext cx="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477120" y="3581280"/>
            <a:ext cx="1752120" cy="2743200"/>
            <a:chOff x="6477120" y="3581280"/>
            <a:chExt cx="1752120" cy="2743200"/>
          </a:xfrm>
        </p:grpSpPr>
        <p:sp>
          <p:nvSpPr>
            <p:cNvPr id="95" name=""/>
            <p:cNvSpPr/>
            <p:nvPr/>
          </p:nvSpPr>
          <p:spPr>
            <a:xfrm>
              <a:off x="6477120" y="3581280"/>
              <a:ext cx="1752120" cy="2743200"/>
            </a:xfrm>
            <a:prstGeom prst="wedgeRoundRectCallout">
              <a:avLst>
                <a:gd name="adj1" fmla="val -92277"/>
                <a:gd name="adj2" fmla="val -25578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360" y="3733560"/>
              <a:ext cx="1340280" cy="25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Datum/Ze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Send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Empfä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C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Anha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Betref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Größ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Quelldatei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2:21:42Z</dcterms:created>
  <dc:creator>Gerrit Lütkeschümer</dc:creator>
  <dc:description/>
  <dc:language>en-US</dc:language>
  <cp:lastModifiedBy>Gerrit Lütkeschümer</cp:lastModifiedBy>
  <dcterms:modified xsi:type="dcterms:W3CDTF">2006-06-06T22:14:33Z</dcterms:modified>
  <cp:revision>9</cp:revision>
  <dc:subject/>
  <dc:title>Folie 1</dc:title>
</cp:coreProperties>
</file>